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2781A-53E7-47DA-86A9-31DBCDAE134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CE789-2119-4BE5-84DC-AB9B4611974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B34B0-972A-4A49-8B89-8928DDF0164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98541-DAA6-474B-AAD3-CEF6038517A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55DF2-16C3-4360-BB75-281704821EB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E79F5-757C-4A2B-A913-EE64BFB1774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19A02-D799-4A64-9D24-69A94A17DBD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D9C53-2CB9-4FA4-83A1-8533D612D74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C468E-5F17-4D35-8398-FE095527D84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C0F29-3B13-4CF6-AC13-6C0E14E632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3B7AF-8B8E-4AE9-8605-5F0FDC50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D1A9E-C5F6-4EA5-9407-358BF83A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B7E9-DFD4-424B-9CDF-C2BE8CD7D2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5E168-5E07-480A-A092-C07B806E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0CA8-892E-4337-99CA-A29FB55D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FE2C2-CCE5-4732-873E-FCB2938B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804E3-6C9A-417E-BA96-4FBA743D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45912-F0E4-4709-996D-BDA8CB80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8233C-5CDC-4098-9B5A-69C25967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51B4-F22B-4FD5-86D1-7C6EBD90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FAF66-D739-4265-8CD6-83BFBE78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7D9A58-6A03-4527-96C9-424F60C8D7C5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nutri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CÉLULAS AUTÓTROFAS Y HETERÓTROFAS EN UNA PLA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7 Imagen" descr="plantaSOLA_baja.tif"/>
          <p:cNvPicPr/>
          <p:nvPr/>
        </p:nvPicPr>
        <p:blipFill>
          <a:blip r:embed="rId1"/>
          <a:stretch/>
        </p:blipFill>
        <p:spPr>
          <a:xfrm>
            <a:off x="5003640" y="1052640"/>
            <a:ext cx="3848400" cy="486864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Células autótrofas y heterótrofas en una plan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84360" y="1700280"/>
            <a:ext cx="424800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plantas, como ya sabemos, son organismos autótrofos, es decir, fabrican su propio aliment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partir de materia inorgán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ún así, como organismos pluricelulares tienen células autótrofas y heterótrof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8 Imagen" descr="hoja cloroplasto_alta.jpg"/>
          <p:cNvPicPr/>
          <p:nvPr/>
        </p:nvPicPr>
        <p:blipFill>
          <a:blip r:embed="rId1"/>
          <a:stretch/>
        </p:blipFill>
        <p:spPr>
          <a:xfrm>
            <a:off x="3492360" y="1177920"/>
            <a:ext cx="5167440" cy="45021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Células autótrofas y heterótrofas en una plan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971640" y="155736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élulas autótrofas se encuentran en las partes verdes de la planta, como las hojas y los tallos de las herbáceas que tienen cloroplastos donde realizan la fotosínte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Células autótrofas en pla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539640" y="5589720"/>
            <a:ext cx="79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células de la hoja son autótrofas, pues tienen cloroplastos dónde realizan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fotosíntesi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17 Imagen" descr="2CN_01_act_celveg_013104.tif"/>
          <p:cNvPicPr/>
          <p:nvPr/>
        </p:nvPicPr>
        <p:blipFill>
          <a:blip r:embed="rId3"/>
          <a:stretch/>
        </p:blipFill>
        <p:spPr>
          <a:xfrm>
            <a:off x="684360" y="2852640"/>
            <a:ext cx="3887640" cy="25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Células autótrofas y heterótrofas en una plan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934920" y="1347840"/>
            <a:ext cx="727236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élulas heterótrofas son incapaces de crear materia orgánica por sí mismas al carecer de cloropla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s células se alimentan gracias a la savia elaborada que se fabrica en las células autótrofas de la plan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élulas heterótrofas se encuentran en las partes no verdes de la planta como raíces o tallos leño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Células heterótrofas en pla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50920" y="515772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células de la raíz son heterótrofas al no realizar la fotosíntesi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11 Imagen" descr="raiz_baja.jpg"/>
          <p:cNvPicPr/>
          <p:nvPr/>
        </p:nvPicPr>
        <p:blipFill>
          <a:blip r:embed="rId2"/>
          <a:stretch/>
        </p:blipFill>
        <p:spPr>
          <a:xfrm>
            <a:off x="2411280" y="3716280"/>
            <a:ext cx="6416640" cy="25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0-04T16:32:07Z</dcterms:modified>
  <cp:revision>52</cp:revision>
  <dc:subject/>
  <dc:title>Diapositiva 1</dc:title>
</cp:coreProperties>
</file>